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55AF-4CCB-49EB-A628-E3CBFFF8C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7705-661C-4DAD-A658-B3DF9307A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ADD3-793C-4A59-872F-3F8850B35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F613-945F-45CB-BAAA-92BC9E02E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59C3-731C-434A-97AC-54C6767CB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70AA-3101-4E1F-9757-0BB1EDB94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F6E0-CE91-43F9-9C67-E50886A4A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6296-6713-4672-8024-42A5DC88B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1F9E-6230-42D1-B901-953E55FED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8A5A-4B2A-4B1C-9517-64404C290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D70B-BA8F-4D0C-A623-6B7C23FCF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E721-13F6-451F-ABFA-407C4725B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3BACD-1BB3-40C4-8D0B-A9FDD5778A38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Τίτλος 1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29600" cy="17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Τίτλος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πό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το19ο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αιώνα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ίχα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γίνει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στη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υρώπ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πολλέ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αλλαγές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τη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ιστήμης,τη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κοινωνία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και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δηγού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βαθμιαία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στη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ανατροπ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τω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καθιερωμένω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αξιών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Τίτλος 1" descr=""/>
          <p:cNvPicPr/>
          <p:nvPr/>
        </p:nvPicPr>
        <p:blipFill>
          <a:blip r:embed="rId1"/>
          <a:stretch/>
        </p:blipFill>
        <p:spPr>
          <a:xfrm>
            <a:off x="469800" y="85680"/>
            <a:ext cx="8229600" cy="17193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Πνευματικά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αναστατικά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κινήματα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Διαφωτισμός,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Γαλλικ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ανάσταση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 Ρομαντισμός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Βιομηχανικ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ανάσταση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Ρωσικ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ανάσταση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Τίτλος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Η παραδοσιακ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οίησ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νταποκρινότα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στην παλι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άξ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ραγμάτων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Γιατί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ο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αραπάν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λλαγέ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επενεργούν στο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ρόπο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ο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οποί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άνθρωπο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ισθανότα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σχέσ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ο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ο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κόσμ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επηρεάζου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δηλαδή την ευαισθησία το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Για να εκφράσει τη «διάλυση» ευαισθησίας του ανθρώπου, η ποίηση έπρεπε να βρει καινούριους εκφραστικούς τρόπου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Τίτλος 1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29600" cy="17193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Το όνομα: άγνωστο, παρουσιαζόταν πρώτη φορά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 τίτλος είναι διφορούμενος: μπορεί να είναι ένας όρος της στιχουργικής,αλλὰ μπορεί και να σημαίνει μια βαθύτερη αλλαγή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Τίτλος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 τίτλος είχε ασφαλώς το δεύτερο νόημα. Με τη λιγοσέλιδη ποιητικὴ συλλογή ερχόταν στη νέα ελληνική ποίηση μία αναπάντεχη αλλαγή, μια πραγματική «στροφή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Τίτλος 1" descr=""/>
          <p:cNvPicPr/>
          <p:nvPr/>
        </p:nvPicPr>
        <p:blipFill>
          <a:blip r:embed="rId1"/>
          <a:stretch/>
        </p:blipFill>
        <p:spPr>
          <a:xfrm>
            <a:off x="414360" y="96840"/>
            <a:ext cx="8400960" cy="17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8T09:13:27Z</dcterms:created>
  <dc:creator>ΓΙΩΡΓΟΣ   ΔΕΣΠΟΙΝΑ</dc:creator>
  <dc:description/>
  <dc:language>en-US</dc:language>
  <cp:lastModifiedBy>giorgos</cp:lastModifiedBy>
  <dcterms:modified xsi:type="dcterms:W3CDTF">2012-03-23T09:53:23Z</dcterms:modified>
  <cp:revision>11</cp:revision>
  <dc:subject/>
  <dc:title>ΗΓενιάτου’30 Aπό το19ο αιώνα, είχαν γίνει στην Ευρώπη πολλέςαλλαγές,που έχουν σχέση με την εξέλιξη της επιστήμης και τη δομή της κοινωνικής οργάνωσης και οδηγούν βαθμιαία στην ανατροπή των καθιερωμένων αξιών.</dc:title>
</cp:coreProperties>
</file>